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4462-88E1-4BE7-8DA7-2A9786CF0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1528-0078-41F5-BB45-1E4CD403D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23B8-F32F-4630-AE1A-0F234D937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14560" y="706320"/>
            <a:ext cx="4574880" cy="34308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chematic drawing of a typical de-ionizer is given i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andout 2-2-8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Use it to explain the pathway of water through a twin bed de-ioniz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ftened water enters at the top right into the twin bed de-ionizer.  Cation and anion exchange agents are resins with large surface areas.  Cations are exchanged for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ions for O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the combination is H-OH, or water!  After Cation and anion exchange, the water is filtered (to remove resin particles and sometimes bacteria) before being re-circulated through the distribution system and returned to the de-ionizer, usually via a buffer tank.  The Cation and anion resins are regenerated using hydrochloric acid and sodium hydroxide respectively.  There should be specifications available for these two materials for the inspector to chec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bed de-ionizers are also common.  They may be more prone to bacterial contamination and so the inspector should check them care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hould be disinfected at regular interv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is not a option, because of the resin material.  Furthermore, many of the de-ionizers are made of plastic materials.  However, the regenerating chemicals are very effective biocides and so the system should be regenerated frequently, at least once a week, regardless of the conductivity readings. Inspectors should ask for the sanitation records so that these can be check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Disinfection of the circulating water is necessary</a:t>
            </a:r>
            <a:r>
              <a:rPr b="0" lang="en-US" sz="1200" spc="-1" strike="noStrike">
                <a:solidFill>
                  <a:srgbClr val="0000cc"/>
                </a:solidFill>
                <a:latin typeface="Calibri"/>
                <a:ea typeface="Arial"/>
              </a:rPr>
              <a:t>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this can be achieved by inline UV irradiation and or ozoniz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F639-38EC-4ADA-A45D-73CAA0147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ldImg"/>
          </p:nvPr>
        </p:nvSpPr>
        <p:spPr>
          <a:xfrm>
            <a:off x="1293840" y="795240"/>
            <a:ext cx="4271760" cy="3203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гисане академске студије фар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735440" y="5661000"/>
            <a:ext cx="38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. др Ана Барјактар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826920" y="1773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11280" y="29685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ЗА ФАРМАЦЕУТСКУ УПОТРЕБ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25520" y="234936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бистра, безбојна, без мириса и ук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степена чистоћ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стрина, бо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H: 5 –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фати, тешки мета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тивне матер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так након испарав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 mg/100 ml – 0,001%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а контаминација: укупан број аеробних микроорганиза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ml (Ph.Jug.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QUA PURIFIC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560" y="2205000"/>
            <a:ext cx="87138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ка онечишће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h.Jug. IV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аје стандарде за одређивање, осим за стерилне препарат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љиво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4,3 µS/cm (20°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QUA PURIFIC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QUA PURIFIC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ње осталих вода за примену у фарма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нестерилних фармацеутских обл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ње и чишћење опре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Е СМЕ </a:t>
            </a:r>
            <a:r>
              <a:rPr b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СЕ УПОТРЕБИТИ ЗА ИЗРАДУ ПАРЕНТЕРАЛНИХ ПРЕПА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стра, безбојна течност, без мириса и укуса, стерилна и апироге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степена чистоћ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H: 5 – 7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фати, тешки мета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H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тивне матер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так након испаравања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 mg/100 ml – 0,001%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А ЗА ИНЈЕКЦИЈЕ</a:t>
            </a:r>
            <a:br>
              <a:rPr sz="32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 pro injectio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 ad iniectabili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 redestilat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 bidestilat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А ЗА ИНЈЕ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захтев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.Jug.IV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 се дестилацијом свеже пречишћене воде а затим стерилише (поступак 2а или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шта испитив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ст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ка онечишћ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ност пуњ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ост (засејавање на подлог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гене супстанце (биолошка метода на кунић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А ЗА ИНЈЕ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терилно у боцама од неутралног стакла, високе хидролитичке отпор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раду парентералних и офталмолошких препар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же дестилисана може се употребити за израду инјекција, без претходне стерилизације!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M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ДПП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за инјекције се мора користити свеже припремљена (чување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ли до употребе чувати при константној циркулацији на тем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атур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190764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њ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з омекшале или пречишћене воде дестилациј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Ph.Eur., BP, DAB 10/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еве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 осмоз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5,0 – 7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хемијске чистоћ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тешки метали, нитр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љив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c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ски ендотокси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≤ 0,25 IU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а за инјекције </a:t>
            </a:r>
            <a:r>
              <a:rPr b="1" i="1" lang="sr-Latn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in bulk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”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Ph.Jug.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9647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а за инјекције </a:t>
            </a:r>
            <a:r>
              <a:rPr b="1" i="1" lang="sr-Latn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in bulk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”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Ph.Jug.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рижидеру (мање количине) или на температури изнад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°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 сталној циркулацији најдуже 2 – 3 дана (већи волуме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раду препарата за парентералну примену који се стерилишу у финалној амбала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ње воде за специјалне намен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на вода за инјек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ње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на у одговарајућу амбалажу од стакла или пластике (одговарајућег квалитета) и стерилисана на одговарајући начин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лото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стра, безбојна, без механичких онечишћењ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5,0 – 7,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хемијске чистоће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фати, тешки метали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H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билне супстанц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љивост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олумен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10 m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25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cm 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олумен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5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cm 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и квалит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терил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ски ендотокси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≤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IU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ка онечишћ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уел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такло или пласти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уме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l /USP 24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арање или израда парентералних препарата под асептичним усло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на вода за инје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мена вод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раду фармацеутских препарата (носач, ексципијен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интези лековитих и помоћних супстан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конституцију неких препа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рање и чишћење посуђа, амбалаже, апарат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цесу стерилизације (засићена водена пара под притиском – аутоклавирањ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аналитици лековитих супстанци и фармацеутских пре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за разблаживање концентрованих раствора за хемодијализу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for diluting concentrated haemodialysis solution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42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дговара пречишћеној води, омекшаној в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ао за пречишћену в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хемијске чистоћ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ао за пречишћену в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 АЛУМИНИЈУМ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токсичних ефека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а количин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µg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 пречишћена вода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, highly purified–Aqua valde purificata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њена за употребу у производњи медицинских производа где је потребна вод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соког биолошког квалите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зузев када се захтева вода за инј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идирани поступци добијања (реверзна осмоза, ултрафилтрација и дејонизација); праћење проводљивости и контрола микробиолошког квалите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е добијања воде за фармацеутску употреб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2708280"/>
            <a:ext cx="867564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дестил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етода јонске измене (деминерализациј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етода реве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м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стале методе (електродијализа, савремене методе добијања “ултра чисте” вод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тил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рад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здвајање супстанци које се међусобно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ликују по температури кључањ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дносно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тиску пар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раздвајање воде од неиспарљивих растворених супстанц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води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у дестилатор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арат са вишеструким ефек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арати који раде на принципу термокомпрес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33156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бољи апарати за дестилацују направљени су од нерђајућег челика, бакра и кварцног стак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путство за рад са класичним дестилатор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156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и се до 2/3 волу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56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х 5 мин. водена пара пролази без хлађења, да би се елиминисали микроорганиз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56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х 10 – 20% и последњих 10% дестилата се одбацују због могуће присутних гасова и испарљивих компоненти, који могу угрозити квалитет дестил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56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азне количине воде – 75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стиловане в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тил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јонске изме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53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рад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да за пиће пролази кроз катјонски и анјонски измењивач (јоноизмењивачке смоле), при чему се издвајају у води растворни јо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оизмењивачке смоле – нерастворљиве, синтетске, полимерне, фенолне, карбоксилне, амино или сулфоноване смоле велике молекулске ма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јонске изме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аском воде кроз катјонски измењивач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из воде замењује се хидроген јонима из смол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A +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аском вод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з анјонски измењивач, за смолу се везују анјо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мо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HA +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(чис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 се одвијају сукцесивно или симулт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генерациј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тјонске колоне раствор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нјонске раствор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OH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550872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5651640" y="37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5334120" y="40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2"/>
          <p:cNvCxnSpPr/>
          <p:nvPr/>
        </p:nvCxnSpPr>
        <p:spPr>
          <a:xfrm>
            <a:off x="4355640" y="443664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" name="Straight Arrow Connector 7"/>
          <p:cNvCxnSpPr/>
          <p:nvPr/>
        </p:nvCxnSpPr>
        <p:spPr>
          <a:xfrm>
            <a:off x="4066920" y="321264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13"/>
          <p:cNvSpPr/>
          <p:nvPr/>
        </p:nvSpPr>
        <p:spPr>
          <a:xfrm>
            <a:off x="1763640" y="1125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матски приказ дејониза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831960" y="1863720"/>
            <a:ext cx="7480080" cy="469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реверзне осмо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67564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удан процес који се одвија под притиском већим од осмотск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нска сила процеса је разлика у притисцима на странама мембр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вајају се молекуле растварача (ВОДА) од молекула растворених супстанц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мо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азак молекула воде кроз семипермеабилну мембрану у смеру од мањ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 већој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верзна осмоза: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азак молекула воде кроз семипермеабилну мембрану у смеру од више ка нижој концентраци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3"/>
          <p:cNvGrpSpPr/>
          <p:nvPr/>
        </p:nvGrpSpPr>
        <p:grpSpPr>
          <a:xfrm>
            <a:off x="884880" y="5467320"/>
            <a:ext cx="297360" cy="332280"/>
            <a:chOff x="884880" y="5467320"/>
            <a:chExt cx="297360" cy="332280"/>
          </a:xfrm>
        </p:grpSpPr>
        <p:sp>
          <p:nvSpPr>
            <p:cNvPr id="108" name="Oval 4"/>
            <p:cNvSpPr/>
            <p:nvPr/>
          </p:nvSpPr>
          <p:spPr>
            <a:xfrm>
              <a:off x="901800" y="5492880"/>
              <a:ext cx="196920" cy="23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884880" y="54673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utur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6"/>
          <p:cNvGrpSpPr/>
          <p:nvPr/>
        </p:nvGrpSpPr>
        <p:grpSpPr>
          <a:xfrm>
            <a:off x="865800" y="5886360"/>
            <a:ext cx="297360" cy="332280"/>
            <a:chOff x="865800" y="5886360"/>
            <a:chExt cx="297360" cy="332280"/>
          </a:xfrm>
        </p:grpSpPr>
        <p:sp>
          <p:nvSpPr>
            <p:cNvPr id="111" name="Oval 7"/>
            <p:cNvSpPr/>
            <p:nvPr/>
          </p:nvSpPr>
          <p:spPr>
            <a:xfrm>
              <a:off x="901800" y="5911920"/>
              <a:ext cx="196920" cy="23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865800" y="588636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utur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9"/>
          <p:cNvSpPr/>
          <p:nvPr/>
        </p:nvSpPr>
        <p:spPr>
          <a:xfrm>
            <a:off x="1190520" y="5479920"/>
            <a:ext cx="182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Feed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1305000" y="5880240"/>
            <a:ext cx="182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Purified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3735360" y="2259000"/>
            <a:ext cx="415800" cy="103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25"/>
          <p:cNvSpPr/>
          <p:nvPr/>
        </p:nvSpPr>
        <p:spPr>
          <a:xfrm>
            <a:off x="5048280" y="2200320"/>
            <a:ext cx="420480" cy="1106280"/>
          </a:xfrm>
          <a:custGeom>
            <a:avLst/>
            <a:gdLst>
              <a:gd name="textAreaLeft" fmla="*/ 0 w 420480"/>
              <a:gd name="textAreaRight" fmla="*/ 420840 w 420480"/>
              <a:gd name="textAreaTop" fmla="*/ 0 h 1106280"/>
              <a:gd name="textAreaBottom" fmla="*/ 1106640 h 1106280"/>
            </a:gdLst>
            <a:ahLst/>
            <a:rect l="textAreaLeft" t="textAreaTop" r="textAreaRight" b="textAreaBottom"/>
            <a:pathLst>
              <a:path w="265" h="697">
                <a:moveTo>
                  <a:pt x="0" y="12"/>
                </a:moveTo>
                <a:lnTo>
                  <a:pt x="0" y="696"/>
                </a:lnTo>
                <a:lnTo>
                  <a:pt x="264" y="696"/>
                </a:lnTo>
                <a:lnTo>
                  <a:pt x="26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6"/>
          <p:cNvSpPr/>
          <p:nvPr/>
        </p:nvSpPr>
        <p:spPr>
          <a:xfrm>
            <a:off x="4933800" y="1857240"/>
            <a:ext cx="2076480" cy="4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7"/>
          <p:cNvSpPr/>
          <p:nvPr/>
        </p:nvSpPr>
        <p:spPr>
          <a:xfrm>
            <a:off x="2749680" y="2333520"/>
            <a:ext cx="7491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8"/>
          <p:cNvSpPr/>
          <p:nvPr/>
        </p:nvSpPr>
        <p:spPr>
          <a:xfrm flipV="1">
            <a:off x="2314440" y="2241360"/>
            <a:ext cx="0" cy="9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9"/>
          <p:cNvSpPr/>
          <p:nvPr/>
        </p:nvSpPr>
        <p:spPr>
          <a:xfrm flipV="1">
            <a:off x="2705040" y="2241360"/>
            <a:ext cx="0" cy="9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5"/>
          <p:cNvSpPr/>
          <p:nvPr/>
        </p:nvSpPr>
        <p:spPr>
          <a:xfrm>
            <a:off x="2294280" y="1112760"/>
            <a:ext cx="473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ЕВЕРЗНА ОСМ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2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006960" cy="29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7840" y="9648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зи за употребу в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2707920"/>
            <a:ext cx="8893080" cy="26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 растварања великог броја лековитих супстан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тибилност са великим бројем супстан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ност са физиолошког асп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сорпција лековите супстанце из раствора је брза и комплет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реверзне осмо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воде се уклањају нерастворне материје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ице мање од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актерије, вируси, пирогени) и 90 – 99% јона из полазне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 метод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Мала количина неорганских соли (једновалентних јона) пролази мембра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реверзне осмо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филтрациј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еличина пора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 do 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клањају се бактериј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трафилтрациј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личина пор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1 do 0,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уклањају се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с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нофилтра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еличина пор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01 do 0,0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уклањају се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е компоненте масе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– 1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реве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мо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мбране за ревезрну осмозу праве се у виду: листова, влакана и цеви, дебљине око 0,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акују се у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ДУЛЕ /као рамске филтер пресе, спирални намотаји, цеви или шупља влак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улоза-аце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улоза-ацетилпропио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улоза-ацетилбути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ам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мбране задржавају моновалентне јоне (90%), дивалентне јоне (95%), органске супстанце молекулске масе веће од 300, вирусе и бактери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99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ђај за реверзну осмоз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2195640" y="1828800"/>
            <a:ext cx="4392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о – хемијске особине в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а вредност диелектричне констан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ак притисак па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а тачка кључањ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дене особине су последица грађе молекуле воде и настанка агрегата асоцираних молекул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637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аеробних микроорганизама у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уство специфичних микроорганиз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уство пирогених ма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риј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препарате означене са “апироге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95280" y="90792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и стандар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за фармацеутску употреб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060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. Jug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 purificata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чишћена во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 pro injectione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за инјекц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.</a:t>
            </a:r>
            <a:r>
              <a:rPr b="1" lang="sr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Jug.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, пречишћ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ua purific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за инјекције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ua ad iniectabil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за разблаживање концентрованих раствора за хемодијализ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ua ad concentratis solutiones diluendas haemodialy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468360" y="1341360"/>
            <a:ext cx="77040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. Eur. 7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чишћена вода (пречишћена вода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i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lk</a:t>
            </a:r>
            <a:r>
              <a:rPr b="0" i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ечишћена вода у контејнери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 пречишћена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за инјекције (вода за инјекције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i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lk</a:t>
            </a:r>
            <a:r>
              <a:rPr b="0" i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терилна вода за инјек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за разблаживањ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ованих раствора за хемодијали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за фармацеутску употреб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ависности од намене мора д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говар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ређеним захтевима з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лептичка испитивања (изглед,укус и мири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 константе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чка кључања и специфична проводљивос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хемијске чистоће, који се односе на присуство одређених јона (амонију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g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дативних супстанци и сувог остат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QUA PURIFIC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686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ци добијања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Jug. I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.Jug.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тил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инерализација (јонска изме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а друга погодна мето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Jug. V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верзна осмо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0</cp:lastModifiedBy>
  <dcterms:modified xsi:type="dcterms:W3CDTF">2023-08-31T07:43:08Z</dcterms:modified>
  <cp:revision>1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_Confidentiality">
    <vt:lpwstr>Restricted</vt:lpwstr>
  </property>
  <property fmtid="{D5CDD505-2E9C-101B-9397-08002B2CF9AE}" pid="3" name="MSIP_Label_a59b6cd5-d141-4a33-8bf1-0ca04484304f_ActionId">
    <vt:lpwstr>1228c1b3-8d14-4ef7-90f5-bec4640385e4</vt:lpwstr>
  </property>
  <property fmtid="{D5CDD505-2E9C-101B-9397-08002B2CF9AE}" pid="4" name="MSIP_Label_a59b6cd5-d141-4a33-8bf1-0ca04484304f_ContentBits">
    <vt:lpwstr>0</vt:lpwstr>
  </property>
  <property fmtid="{D5CDD505-2E9C-101B-9397-08002B2CF9AE}" pid="5" name="MSIP_Label_a59b6cd5-d141-4a33-8bf1-0ca04484304f_Enabled">
    <vt:lpwstr>true</vt:lpwstr>
  </property>
  <property fmtid="{D5CDD505-2E9C-101B-9397-08002B2CF9AE}" pid="6" name="MSIP_Label_a59b6cd5-d141-4a33-8bf1-0ca04484304f_Method">
    <vt:lpwstr>Standard</vt:lpwstr>
  </property>
  <property fmtid="{D5CDD505-2E9C-101B-9397-08002B2CF9AE}" pid="7" name="MSIP_Label_a59b6cd5-d141-4a33-8bf1-0ca04484304f_Name">
    <vt:lpwstr>restricted-default</vt:lpwstr>
  </property>
  <property fmtid="{D5CDD505-2E9C-101B-9397-08002B2CF9AE}" pid="8" name="MSIP_Label_a59b6cd5-d141-4a33-8bf1-0ca04484304f_SetDate">
    <vt:lpwstr>2021-10-22T16:41:40Z</vt:lpwstr>
  </property>
  <property fmtid="{D5CDD505-2E9C-101B-9397-08002B2CF9AE}" pid="9" name="MSIP_Label_a59b6cd5-d141-4a33-8bf1-0ca04484304f_SiteId">
    <vt:lpwstr>38ae3bcd-9579-4fd4-adda-b42e1495d55a</vt:lpwstr>
  </property>
</Properties>
</file>