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59A-BCDA-4CAD-B46F-95A6315F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EA0-05B5-47BF-9D7D-CED2B63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6B4-259C-4246-9F53-E0AEAB08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619-DFD5-4E72-971D-E2DB4453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5FD-E2FF-4C16-B5B3-A52AC88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7F3-9D4F-4CCE-8954-C22F894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86C-559C-4777-B280-BC6812E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6AD-1FD6-4F89-AC15-598CF23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980-BF6B-4948-8F81-9DF2BCD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7AB-798C-4F17-BE36-34DCD47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01E-0A16-4517-8303-FDF4CCEB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35F-B2C1-408B-8F0C-8B73562F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D978-397C-453D-BB67-AAEF50E63F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878360" y="558972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988280" y="177336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2970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АРМАЦЕУТСКИХ</a:t>
            </a: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04904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и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гасове и т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 отпо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дејство хемика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шћ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вишекратне 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680" y="12679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такле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љив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м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акту са водом (нарочито у току стерилизације) може да отпушта алкалије и утиче на пром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јони су слабо везани и лако мигрирају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СТЕ стакла прем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но стак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јено стакло (додавањем малих количина металних окси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трално (борсиликатно-високо хидролитички отпор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трон силикатно стакло (умерено хидролитички отпор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"/>
          <p:cNvGrpSpPr/>
          <p:nvPr/>
        </p:nvGrpSpPr>
        <p:grpSpPr>
          <a:xfrm>
            <a:off x="611280" y="1628640"/>
            <a:ext cx="7678800" cy="3624120"/>
            <a:chOff x="611280" y="1628640"/>
            <a:chExt cx="7678800" cy="3624120"/>
          </a:xfrm>
        </p:grpSpPr>
        <p:sp>
          <p:nvSpPr>
            <p:cNvPr id="103" name="Rectangle 8"/>
            <p:cNvSpPr/>
            <p:nvPr/>
          </p:nvSpPr>
          <p:spPr>
            <a:xfrm>
              <a:off x="611280" y="1628640"/>
              <a:ext cx="7678800" cy="362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320280" y="1844280"/>
              <a:ext cx="219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Борсиликатно стакл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138280" y="1844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87800" y="2239560"/>
              <a:ext cx="114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мпонен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246492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849640" y="2239560"/>
              <a:ext cx="206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нцентрација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(tež.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772884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809640" y="2152440"/>
              <a:ext cx="426564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6"/>
            <p:cNvSpPr/>
            <p:nvPr/>
          </p:nvSpPr>
          <p:spPr>
            <a:xfrm>
              <a:off x="809640" y="2188800"/>
              <a:ext cx="4265640" cy="11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7"/>
            <p:cNvSpPr/>
            <p:nvPr/>
          </p:nvSpPr>
          <p:spPr>
            <a:xfrm>
              <a:off x="507528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507528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5122800" y="2152440"/>
              <a:ext cx="27673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5122800" y="2188800"/>
              <a:ext cx="27673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1"/>
            <p:cNvSpPr/>
            <p:nvPr/>
          </p:nvSpPr>
          <p:spPr>
            <a:xfrm>
              <a:off x="7890120" y="2152440"/>
              <a:ext cx="489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7890120" y="2188800"/>
              <a:ext cx="489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790272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790272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712440" y="256824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Сили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1764720" y="25509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"/>
            <p:cNvSpPr/>
            <p:nvPr/>
          </p:nvSpPr>
          <p:spPr>
            <a:xfrm>
              <a:off x="1879920" y="2568240"/>
              <a:ext cx="794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ди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225360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6489720" y="256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7,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6900480" y="2568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1"/>
            <p:cNvSpPr/>
            <p:nvPr/>
          </p:nvSpPr>
          <p:spPr>
            <a:xfrm>
              <a:off x="6960240" y="2568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2"/>
            <p:cNvSpPr/>
            <p:nvPr/>
          </p:nvSpPr>
          <p:spPr>
            <a:xfrm>
              <a:off x="721764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809640" y="247932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4"/>
            <p:cNvSpPr/>
            <p:nvPr/>
          </p:nvSpPr>
          <p:spPr>
            <a:xfrm>
              <a:off x="809640" y="251604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5075280" y="247932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6"/>
            <p:cNvSpPr/>
            <p:nvPr/>
          </p:nvSpPr>
          <p:spPr>
            <a:xfrm>
              <a:off x="5075280" y="251604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5122800" y="247932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5122800" y="251604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831240" y="28476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Б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0"/>
            <p:cNvSpPr/>
            <p:nvPr/>
          </p:nvSpPr>
          <p:spPr>
            <a:xfrm>
              <a:off x="12330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1"/>
            <p:cNvSpPr/>
            <p:nvPr/>
          </p:nvSpPr>
          <p:spPr>
            <a:xfrm>
              <a:off x="1307520" y="28476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2"/>
            <p:cNvSpPr/>
            <p:nvPr/>
          </p:nvSpPr>
          <p:spPr>
            <a:xfrm>
              <a:off x="172332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"/>
            <p:cNvSpPr/>
            <p:nvPr/>
          </p:nvSpPr>
          <p:spPr>
            <a:xfrm>
              <a:off x="6490440" y="28476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4"/>
            <p:cNvSpPr/>
            <p:nvPr/>
          </p:nvSpPr>
          <p:spPr>
            <a:xfrm>
              <a:off x="67464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6807240" y="28476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6"/>
            <p:cNvSpPr/>
            <p:nvPr/>
          </p:nvSpPr>
          <p:spPr>
            <a:xfrm>
              <a:off x="721764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762480" y="3124080"/>
              <a:ext cx="87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Натр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3152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707480" y="31240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21218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1528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82416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88536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71924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819720" y="340344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55052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1623240" y="340344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20394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6515280" y="340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0"/>
            <p:cNvSpPr/>
            <p:nvPr/>
          </p:nvSpPr>
          <p:spPr>
            <a:xfrm>
              <a:off x="682416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1"/>
            <p:cNvSpPr/>
            <p:nvPr/>
          </p:nvSpPr>
          <p:spPr>
            <a:xfrm>
              <a:off x="6884640" y="340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72432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740160" y="3681000"/>
              <a:ext cx="878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1640880" y="3681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767960" y="3681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21315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6802200" y="368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69051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835200" y="3960360"/>
              <a:ext cx="107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Магнез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193788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2069280" y="3978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2478960" y="3954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591960" y="396036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674640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5"/>
            <p:cNvSpPr/>
            <p:nvPr/>
          </p:nvSpPr>
          <p:spPr>
            <a:xfrm>
              <a:off x="6807600" y="3960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7114680" y="3960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797040" y="4238280"/>
              <a:ext cx="115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лумин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184572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9"/>
            <p:cNvSpPr/>
            <p:nvPr/>
          </p:nvSpPr>
          <p:spPr>
            <a:xfrm>
              <a:off x="2056680" y="42382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0"/>
            <p:cNvSpPr/>
            <p:nvPr/>
          </p:nvSpPr>
          <p:spPr>
            <a:xfrm>
              <a:off x="233460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651528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682416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688536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4"/>
            <p:cNvSpPr/>
            <p:nvPr/>
          </p:nvSpPr>
          <p:spPr>
            <a:xfrm>
              <a:off x="719244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5"/>
            <p:cNvSpPr/>
            <p:nvPr/>
          </p:nvSpPr>
          <p:spPr>
            <a:xfrm>
              <a:off x="905400" y="45176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рс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428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6647040" y="45176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&lt; 0,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7062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809640" y="478116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0"/>
            <p:cNvSpPr/>
            <p:nvPr/>
          </p:nvSpPr>
          <p:spPr>
            <a:xfrm>
              <a:off x="809640" y="475740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5075280" y="475740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5075280" y="478116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5122800" y="478116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4"/>
            <p:cNvSpPr/>
            <p:nvPr/>
          </p:nvSpPr>
          <p:spPr>
            <a:xfrm>
              <a:off x="5122800" y="475740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5"/>
            <p:cNvSpPr/>
            <p:nvPr/>
          </p:nvSpPr>
          <p:spPr>
            <a:xfrm>
              <a:off x="1354320" y="4811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квалитет стакла наведени су у Фармакопеји у поглављу Контејн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 стаклених контејнера за фармацеутску употребу се изражава помоћу хидролитичке отпорности тј. отпорности према отпуштању растворљивих минералних супстанци из стакла у воду под дефинисаним условима контакта унутрашње површине или спрашеног стакла и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хидролитичкој отпорности постоје четири групе стаклених контејн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1075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трално стакло - борсиликатно стакло високе хидролитичке отпорности, отпорно на високу температуру, најскупље за производ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такло – силикатно стакло са високим садржајем натријум- и калцијум-оксида, стакло чија је унутрашња површина оплемењ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е хидролитичке отпо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умерене хидролитичке отпор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ниске хидролит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Н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е парентералне препара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уману крв и дериват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иселе и неутрал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одене парентералне препарате, прашкове за парентералну примену и све остале препарате који нису за парентералну при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врсте препарате који нису за парентералну примену, неке течне препарате за оралну примену и получврсте препарате за топикалну приме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на бази пластифицираног поливинилхлори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за хуману крв, деривате крви и за водене растворе за интравенску инфузију, блистер паковања и бо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тир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бочице за таблете и капс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иске густине за парентералне и офталмолошке препара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исоке густине за парентералн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мбалажу за парентералне препарате и филм на блистер паков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винилацета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за препарате за тоталну парентералну ис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ски еластомер - за израду затварача и ц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и од претходно наведених материјала Југословенска фармакопеја 2000 даје податке о особинама, идентификацији и испити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уд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ибилност (неке врст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густина и мала ма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ц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хемијска отпорност од стакла ти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водену пару и испарљиве супстанц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адсорбовања неких супстанци из препарата на амбалаж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грације адитива из пластике у препар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повишене температуре при топлотној стерилизацији (неке врсте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6836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4000" y="227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обезбеђује заштиту, исправност, идентификацију, информацију о фармацеутском препарату током периода чувања, дистрибуције и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треба да обезбеди одговарајућу ефикасност, безбедност, интегритет, чистоћу и стабилност лековитог препарата у предвиђеном року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може бити есенцијално за адекватну администрацију и примену лека, нпр. ако је паковање истовремено систем за доставу лека - трансдермални фластери, МДИ, назални спре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МЕНИ ЗАТВАР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хемијски индиферен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е одвајати делови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мењати квалитативно или квантитативно састав раствора ни за време стерилизације нити за време чувања препарата, у декларисаном року употре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42960" y="1699920"/>
            <a:ext cx="777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ни затварачи се израђују од материјала добијених вулканизацијом (унакрсно повезивање) макромолекула органских супстанци (еластомери- природни и синтетски) и адитива (средства за вулканизацију, акцелератори, стабилизатори, пигм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еластомери: природни, бутил, хлорбутил и силиконски еластом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ЛНА АМБАЛ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, лим и нерђајући че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, кутије, посуде за аеросол, фо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метал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влагу, гасове и микро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металне амбалаж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о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садржајем – може се спречити облагањем унутрашњег слоја амбалаже материјалима на бази смоле. Спољашњи слој се такође облаже да би се заштитио метал и омогућило штамп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95280" y="98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дна табела карактеристика стаклене, металне и пластичне амба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8360" y="1844640"/>
          <a:ext cx="7921440" cy="4856040"/>
        </p:xfrm>
        <a:graphic>
          <a:graphicData uri="http://schemas.openxmlformats.org/drawingml/2006/table">
            <a:tbl>
              <a:tblPr/>
              <a:tblGrid>
                <a:gridCol w="2309760"/>
                <a:gridCol w="1486080"/>
                <a:gridCol w="1898640"/>
                <a:gridCol w="22269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к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тибилност са садржај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 већином лек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ћа интера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ж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0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тљивост за гасове и вла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ст на високим тем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а од ста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врсте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39528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ПИР И КАР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5280" y="170028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е користи за израду примарне амбалаже осим за подељене праш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кеса, врећица, папирних капсула, сигнатура и упутстава за употребу лека, ку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ецик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 за штам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гасове, вл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виске и ниске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06600" y="119700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алажа која је у директном контакту са леком представља примар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у амбалаж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пр. стаклена боца са раство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о паковање (нпр. картонска кутија за стаклену боцу) садржи примарну амбалажу и додатне компоненте као што су мерне кашике и информација о л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рцијарна амбалажа служи да обједини више секундарно запакованих производа да би се олакшaло склaдиштење и трaнс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95280" y="981000"/>
            <a:ext cx="784872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теви за примарну амбала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леком (адсорпција лека на амбалажу може смањити потентност лека док отпуштање хемикалија у садржај амбалаже може индуковати деградацију л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 од атмосферских ф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лага, кисеоник, светлост, температура, прашина) као и од микроорганизама, инсеката и гло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омогући релативно ла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очавање механичких нечистоћа, контаминаната различитог порекла, деградације у препара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фт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је једнократна или да се лако пере ако је доказано да је безбедно поново је употребити - вишекрат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50920" y="126828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светлости – светлост може да обезбеди енергију потребну да лек изомер промени конфигурацију. Заштита се постиже употребом амбалаже направљене од опалесцентних или обојених матер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кисеоника – деградација процесом оксид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угљен-диоксида – растварањем у води снижава pH вредност формирајући угљену кисе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га може узроковати разблаживање течног препарата и микробиолошку контаминацију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прописи:</a:t>
            </a:r>
            <a:br>
              <a:rPr sz="2800"/>
            </a:b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00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подређен стабилности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физички да реагује са садржајем на начин да доведе до промене карактеристика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: одређене врсте пластичних материјала и стакл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 паковање може бити вишедозно (бочица са таблетама) или једнодозно (блистер или стрип паковања табл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Vitamin C Retard 1000mg 90 tableta"/>
          <p:cNvPicPr/>
          <p:nvPr/>
        </p:nvPicPr>
        <p:blipFill>
          <a:blip r:embed="rId1"/>
          <a:stretch/>
        </p:blipFill>
        <p:spPr>
          <a:xfrm>
            <a:off x="611280" y="290844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Far.tehnologija 1\2022 23\slika blister.jpg"/>
          <p:cNvPicPr/>
          <p:nvPr/>
        </p:nvPicPr>
        <p:blipFill>
          <a:blip r:embed="rId2"/>
          <a:stretch/>
        </p:blipFill>
        <p:spPr>
          <a:xfrm>
            <a:off x="3780000" y="2997360"/>
            <a:ext cx="4679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амбалажног материјала примарног паковања зависи од фармацеутског облика, начина апликације лека, стабилности лека, потребе за стерилизацијом, изгледа, еколошког аспекта и 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КЛО, ПЛАСТИКА И МЕТ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оји се најчешће користе за израду примар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57360" y="1197000"/>
            <a:ext cx="8078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КЛЕНА АМБАЛ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а прехлађена смеша силиката алкалних, земноалкалних и других ме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у употреби за производњу фармацеутске амбал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ене боце и ампуле одређеног квалитета имају предност због хемијске инертности и транспарен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силикатно (неутрално) стакло у употреби због терм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20Z</dcterms:modified>
  <cp:revision>131</cp:revision>
  <dc:subject/>
  <dc:title>Slide 1</dc:title>
</cp:coreProperties>
</file>